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42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6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1FB9D-611E-4E2A-AE94-9A3ECC369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D9BB4-5390-4078-998A-266E2F797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7FE7F-7365-4259-AC78-22CA15626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80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80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301680"/>
            <a:ext cx="88027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457200" y="1746360"/>
            <a:ext cx="9144000" cy="1440"/>
          </a:xfrm>
          <a:prstGeom prst="line">
            <a:avLst/>
          </a:prstGeom>
          <a:ln w="292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2" marL="1287360" indent="-2127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3" marL="1719360" indent="-20808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4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5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6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781200" y="1517760"/>
            <a:ext cx="190152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5649840" y="7132680"/>
            <a:ext cx="405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777777"/>
                </a:solidFill>
                <a:latin typeface="Arial"/>
              </a:rPr>
              <a:t>Cambridge, 19 September, 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ia@laptop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2047680"/>
            <a:ext cx="8818560" cy="51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World Implementat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dia Urrea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PC – Learning team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laudia@laptop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http://www.laptop.org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Brainstorm session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7640" indent="0">
              <a:lnSpc>
                <a:spcPct val="92000"/>
              </a:lnSpc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e overall goal for the laptop initiative is to develop a world-class educational system to enable full development, full participation, and leadership in the 21st centur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ase at the macro level: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ase at the micro level: each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esent, the current system, just as in every other country, cannot meet these needs, particularly in the country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onsideration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ore team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nd pedagogical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ustaina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partnerships (universities and NG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-ba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Plan for Implementation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Distribution pla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Assessment framework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Work with the core team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nd the resources needed to meet those goal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dentify possible partners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nfluence the design of your program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Distribution plan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7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Scale: regions, the schools show dramatic improvement. 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easier to support; providing infrastructure and resources is far more cost-effectiv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s and teachers help each oth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has its most promising opportunity for real, sustainable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Focus on the areas of improvement along three primary dimensions: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of greatest need: Use the laptops where the existing system is falling short to cover what current methods lack. Often this means focusing on rural and isolate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where a significant improvement can be made relatively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chool server + APs</a:t>
            </a: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Support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echnical 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Pedagogical 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going teacher development and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git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untry’s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ong exempl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aptop schools and comm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OLPC support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6996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Assessment framework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5000"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ral dimensions of assessment: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 and influence current evaluation meth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at the social level (families and comm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of the project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enable determining the difference between the laptop initiative as concept and how well it was impleme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19T16:34:47Z</dcterms:modified>
  <cp:revision>30</cp:revision>
  <dc:subject/>
  <dc:title>OLPC</dc:title>
</cp:coreProperties>
</file>